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302A-31FA-4D6D-A023-19EA60A7C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F5B8-902C-4D91-83E4-F4DC07682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23A9-8176-4658-AE9E-7C5AC9619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9308-8436-4376-832D-D258B01A2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4557-233F-4C99-B9D4-FD13380EF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7F45-1B9B-433B-8C69-DCD5C26F0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B30A-CF44-4564-9131-519C5C1A5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D4B7-BE50-42D9-814D-97E0018CF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9647-E653-4754-9361-FAD708808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C18D-DD51-489B-AC74-3FB37E2E7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3BC4-1427-4642-93E1-0B4823C64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CB2C-1246-478C-97B6-ADD152210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A9EEC-990C-4653-A003-07CFF3339E7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alphaomega.jpg"/>
          <p:cNvPicPr/>
          <p:nvPr/>
        </p:nvPicPr>
        <p:blipFill>
          <a:blip r:embed="rId2">
            <a:grayscl/>
          </a:blip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1:Practice 1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1 SECOND AORIS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5"/>
          <p:cNvSpPr/>
          <p:nvPr/>
        </p:nvSpPr>
        <p:spPr>
          <a:xfrm>
            <a:off x="428760" y="1352520"/>
            <a:ext cx="7929360" cy="48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ἐπεσομε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ἐλαβ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ἐβαλλετ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εἰπε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ἐγενετο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ἠλθ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ἐφευγε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εἰδε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5072040" y="216864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f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5057640" y="2676600"/>
            <a:ext cx="214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/they t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8"/>
          <p:cNvSpPr/>
          <p:nvPr/>
        </p:nvSpPr>
        <p:spPr>
          <a:xfrm>
            <a:off x="5057640" y="317340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(pl.) were thr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9"/>
          <p:cNvSpPr/>
          <p:nvPr/>
        </p:nvSpPr>
        <p:spPr>
          <a:xfrm>
            <a:off x="5057640" y="3687840"/>
            <a:ext cx="214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 sa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0"/>
          <p:cNvSpPr/>
          <p:nvPr/>
        </p:nvSpPr>
        <p:spPr>
          <a:xfrm>
            <a:off x="5057640" y="4184640"/>
            <a:ext cx="214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happ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1"/>
          <p:cNvSpPr/>
          <p:nvPr/>
        </p:nvSpPr>
        <p:spPr>
          <a:xfrm>
            <a:off x="5057640" y="4707000"/>
            <a:ext cx="214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/they c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2"/>
          <p:cNvSpPr/>
          <p:nvPr/>
        </p:nvSpPr>
        <p:spPr>
          <a:xfrm>
            <a:off x="5057640" y="520380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e was flee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3"/>
          <p:cNvSpPr/>
          <p:nvPr/>
        </p:nvSpPr>
        <p:spPr>
          <a:xfrm>
            <a:off x="5057640" y="5715000"/>
            <a:ext cx="214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(s.) s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1:Practice 2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1 SECOND AORIS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500040" y="1424160"/>
            <a:ext cx="7929720" cy="48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s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μαθει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εὑρω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μανθανει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εἰπ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ἐνεγκοντε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ἐλθω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λαβετ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ἰδει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3800520" y="224964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rist Infin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3786120" y="2759040"/>
            <a:ext cx="52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sc. Nom. Sing. Aorist Partici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3786120" y="325584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 Infin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7"/>
          <p:cNvSpPr/>
          <p:nvPr/>
        </p:nvSpPr>
        <p:spPr>
          <a:xfrm>
            <a:off x="3786120" y="377028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ngular Aorist Imper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8"/>
          <p:cNvSpPr/>
          <p:nvPr/>
        </p:nvSpPr>
        <p:spPr>
          <a:xfrm>
            <a:off x="3786120" y="4267080"/>
            <a:ext cx="47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sc. Nom. Pl. Aorist Partici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9"/>
          <p:cNvSpPr/>
          <p:nvPr/>
        </p:nvSpPr>
        <p:spPr>
          <a:xfrm>
            <a:off x="3786120" y="478944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sc. Nom. Sing. Aorist Partici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0"/>
          <p:cNvSpPr/>
          <p:nvPr/>
        </p:nvSpPr>
        <p:spPr>
          <a:xfrm>
            <a:off x="3786120" y="5286240"/>
            <a:ext cx="46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ural Aorist Imper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1"/>
          <p:cNvSpPr/>
          <p:nvPr/>
        </p:nvSpPr>
        <p:spPr>
          <a:xfrm>
            <a:off x="3786120" y="579744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rist Infin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1:Practice 3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2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1 SECOND AORIS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3"/>
          <p:cNvSpPr/>
          <p:nvPr/>
        </p:nvSpPr>
        <p:spPr>
          <a:xfrm>
            <a:off x="428760" y="1352520"/>
            <a:ext cx="792936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καταβα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ἀνεβη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ἠλθα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ἐγνωτ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γνου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4"/>
          <p:cNvSpPr/>
          <p:nvPr/>
        </p:nvSpPr>
        <p:spPr>
          <a:xfrm>
            <a:off x="5072040" y="216864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ving gone 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5"/>
          <p:cNvSpPr/>
          <p:nvPr/>
        </p:nvSpPr>
        <p:spPr>
          <a:xfrm>
            <a:off x="5057640" y="2676600"/>
            <a:ext cx="214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 went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6"/>
          <p:cNvSpPr/>
          <p:nvPr/>
        </p:nvSpPr>
        <p:spPr>
          <a:xfrm>
            <a:off x="5057640" y="317340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y c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7"/>
          <p:cNvSpPr/>
          <p:nvPr/>
        </p:nvSpPr>
        <p:spPr>
          <a:xfrm>
            <a:off x="5057640" y="3687840"/>
            <a:ext cx="214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(pl.) kn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8"/>
          <p:cNvSpPr/>
          <p:nvPr/>
        </p:nvSpPr>
        <p:spPr>
          <a:xfrm>
            <a:off x="5057640" y="4184640"/>
            <a:ext cx="214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ving 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1:Practic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2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-WAY PRACTI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"/>
          <p:cNvSpPr/>
          <p:nvPr/>
        </p:nvSpPr>
        <p:spPr>
          <a:xfrm>
            <a:off x="142920" y="1319040"/>
            <a:ext cx="7929360" cy="47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ολλοι ἀπεθαν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ἠγον αὐτο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φαγον τον ἀρτ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λθοντες εἰδον αὐτ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ἰδε την ὁδ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δει ἐλθειν εἰς τα Ἱεροσολυμα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4"/>
          <p:cNvSpPr/>
          <p:nvPr/>
        </p:nvSpPr>
        <p:spPr>
          <a:xfrm>
            <a:off x="4586400" y="219852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di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4572000" y="2708280"/>
            <a:ext cx="485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was/they were leading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6"/>
          <p:cNvSpPr/>
          <p:nvPr/>
        </p:nvSpPr>
        <p:spPr>
          <a:xfrm>
            <a:off x="4572000" y="320508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/they ate the bre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7"/>
          <p:cNvSpPr/>
          <p:nvPr/>
        </p:nvSpPr>
        <p:spPr>
          <a:xfrm>
            <a:off x="4572000" y="371808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they came, they saw hi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8"/>
          <p:cNvSpPr/>
          <p:nvPr/>
        </p:nvSpPr>
        <p:spPr>
          <a:xfrm>
            <a:off x="4572000" y="421488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e the roa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9"/>
          <p:cNvSpPr/>
          <p:nvPr/>
        </p:nvSpPr>
        <p:spPr>
          <a:xfrm>
            <a:off x="4572000" y="4738680"/>
            <a:ext cx="328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necessary to go to Jerusal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1:Practic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2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-WAY PRACTI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3"/>
          <p:cNvSpPr/>
          <p:nvPr/>
        </p:nvSpPr>
        <p:spPr>
          <a:xfrm>
            <a:off x="142920" y="1176480"/>
            <a:ext cx="7929360" cy="65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εἰπων ταυτα ὁ Ἰησους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ξηλθε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ναβας εἰς το ἱερον ἀπεθανε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rophets spok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loved the s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want to see the s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I found it, I took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4"/>
          <p:cNvSpPr/>
          <p:nvPr/>
        </p:nvSpPr>
        <p:spPr>
          <a:xfrm>
            <a:off x="4643280" y="1285920"/>
            <a:ext cx="45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fter Jesus had said these things he lef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0"/>
          <p:cNvSpPr/>
          <p:nvPr/>
        </p:nvSpPr>
        <p:spPr>
          <a:xfrm>
            <a:off x="4643280" y="2281320"/>
            <a:ext cx="45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he had gone up to the temple he di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1"/>
          <p:cNvSpPr/>
          <p:nvPr/>
        </p:nvSpPr>
        <p:spPr>
          <a:xfrm>
            <a:off x="4641840" y="3284640"/>
            <a:ext cx="4071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οἱ προφηται εἰπ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2"/>
          <p:cNvSpPr/>
          <p:nvPr/>
        </p:nvSpPr>
        <p:spPr>
          <a:xfrm>
            <a:off x="4643280" y="3786120"/>
            <a:ext cx="45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ον υἱον ἐφιλησα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(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φιλουν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if you want to stress continuity)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3"/>
          <p:cNvSpPr/>
          <p:nvPr/>
        </p:nvSpPr>
        <p:spPr>
          <a:xfrm>
            <a:off x="4643280" y="4800600"/>
            <a:ext cx="407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θελω ἰδειν (βλεψαι) την θαλασσαν 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4"/>
          <p:cNvSpPr/>
          <p:nvPr/>
        </p:nvSpPr>
        <p:spPr>
          <a:xfrm>
            <a:off x="4643280" y="5823000"/>
            <a:ext cx="4071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εὑρων ἐλαβον αὐτο.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1:Practice 6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2"/>
          <p:cNvSpPr/>
          <p:nvPr/>
        </p:nvSpPr>
        <p:spPr>
          <a:xfrm>
            <a:off x="244440" y="874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2 THE FUTURE AND AORISTS OF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LIQUID 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3"/>
          <p:cNvSpPr/>
          <p:nvPr/>
        </p:nvSpPr>
        <p:spPr>
          <a:xfrm>
            <a:off x="428760" y="1352520"/>
            <a:ext cx="7929360" cy="33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ἐμεινα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ἀπαγγελοῦμε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ἠγειρε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4"/>
          <p:cNvSpPr/>
          <p:nvPr/>
        </p:nvSpPr>
        <p:spPr>
          <a:xfrm>
            <a:off x="5072040" y="216864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y remai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5057640" y="2676600"/>
            <a:ext cx="30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will annou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6"/>
          <p:cNvSpPr/>
          <p:nvPr/>
        </p:nvSpPr>
        <p:spPr>
          <a:xfrm>
            <a:off x="5057640" y="3173400"/>
            <a:ext cx="387216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 raised (in fact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ἠγειρεν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uld also be imperfect- he was raising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7"/>
          <p:cNvSpPr/>
          <p:nvPr/>
        </p:nvSpPr>
        <p:spPr>
          <a:xfrm>
            <a:off x="5072040" y="439596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y kil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8"/>
          <p:cNvSpPr/>
          <p:nvPr/>
        </p:nvSpPr>
        <p:spPr>
          <a:xfrm>
            <a:off x="5072040" y="4896000"/>
            <a:ext cx="33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 will judge th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428760" y="4297320"/>
            <a:ext cx="4572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ἀπεκτεινα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κρινεῖ τον κοσμ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ἀποστειλας ἐξηλθε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0"/>
          <p:cNvSpPr/>
          <p:nvPr/>
        </p:nvSpPr>
        <p:spPr>
          <a:xfrm>
            <a:off x="5072040" y="539604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ving sent, he went 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1:Practice 7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2"/>
          <p:cNvSpPr/>
          <p:nvPr/>
        </p:nvSpPr>
        <p:spPr>
          <a:xfrm>
            <a:off x="244440" y="874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2 THE FUTURE AND AORISTS OF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LIQUID 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3"/>
          <p:cNvSpPr/>
          <p:nvPr/>
        </p:nvSpPr>
        <p:spPr>
          <a:xfrm>
            <a:off x="214200" y="1352520"/>
            <a:ext cx="792972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θελω σπειρα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ἀραντες, ἠνεγκ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4"/>
          <p:cNvSpPr/>
          <p:nvPr/>
        </p:nvSpPr>
        <p:spPr>
          <a:xfrm>
            <a:off x="4857840" y="2168640"/>
            <a:ext cx="350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wish to s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5"/>
          <p:cNvSpPr/>
          <p:nvPr/>
        </p:nvSpPr>
        <p:spPr>
          <a:xfrm>
            <a:off x="4843440" y="2706840"/>
            <a:ext cx="43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fter they lifted, they brou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1"/>
          <p:cNvSpPr/>
          <p:nvPr/>
        </p:nvSpPr>
        <p:spPr>
          <a:xfrm>
            <a:off x="1143000" y="3429000"/>
            <a:ext cx="3857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y will annou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(pl.) will thr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aise (s.) the dead ma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 killed 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3"/>
          <p:cNvSpPr/>
          <p:nvPr/>
        </p:nvSpPr>
        <p:spPr>
          <a:xfrm>
            <a:off x="4857840" y="3414600"/>
            <a:ext cx="371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παγγελουσιν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4"/>
          <p:cNvSpPr/>
          <p:nvPr/>
        </p:nvSpPr>
        <p:spPr>
          <a:xfrm>
            <a:off x="4857840" y="4145040"/>
            <a:ext cx="371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βαλειτε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5"/>
          <p:cNvSpPr/>
          <p:nvPr/>
        </p:nvSpPr>
        <p:spPr>
          <a:xfrm>
            <a:off x="4857840" y="4888080"/>
            <a:ext cx="371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γειρον τον νεκρον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6"/>
          <p:cNvSpPr/>
          <p:nvPr/>
        </p:nvSpPr>
        <p:spPr>
          <a:xfrm>
            <a:off x="4857840" y="5608800"/>
            <a:ext cx="371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πεκτεινεν αὐτην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16:34:43Z</dcterms:created>
  <dc:creator>Sarah</dc:creator>
  <dc:description/>
  <dc:language>en-US</dc:language>
  <cp:lastModifiedBy>Sarah</cp:lastModifiedBy>
  <dcterms:modified xsi:type="dcterms:W3CDTF">2009-08-09T10:56:20Z</dcterms:modified>
  <cp:revision>29</cp:revision>
  <dc:subject/>
  <dc:title>Slide 1</dc:title>
</cp:coreProperties>
</file>